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009AA-4700-47E8-A182-E38DF9CDC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C4EBB-0B5F-42BF-B61E-D70FB2BFA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BA8E6-0324-47C5-8D0A-495D18F1D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40FB8-2334-40DB-951D-CF1080C97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5561B-8463-49C0-B369-294ADAA77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444F4-753B-4FF4-991B-1624AE223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360AC-52DE-4F3E-BD17-FB2B4116E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49996-A1D4-4AD6-B4B5-07AB9F78E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DD627-EBB6-490A-BC87-A24D1920E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A5354-1DD9-4584-AABB-0E134A430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59E17-A6E7-47DC-BBBB-6190039A9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63B1E-37C3-4C6A-A9D6-1B0FFF30D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65099-8017-48C8-8F36-0FEF34887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A32D2-EF3F-4067-BD28-12FA12B53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7A508-D92C-4E3C-98AE-D3E49F2C8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8C650-D6BD-418D-AE54-16D9D1CF3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1FCC55-45CA-4297-9B45-E6CF79ACD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C21AA-322E-4EE1-8B0A-A9C59E0CC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A8D90-3D4F-43D6-996A-6ADBA58E3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52734-E3AE-46BF-BFC1-604546BA1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9D828-89B1-41C7-BD43-A6E4C88EB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91C68-2929-4D4E-9E46-72323CE86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D6825-FB7A-46FB-8B9E-277BE01F7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A48F0-2C2C-48AF-8F31-78F5C96A3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12FF-4801-4CEE-81B9-5F0C3178F732}"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AD076-F84A-448C-AF0D-AEF60C30693D}"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Middle School Grades 6-8</a:t>
            </a: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371240" y="114300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Creating Calendars in Publisher</a:t>
            </a:r>
            <a:endParaRPr b="1" lang="en-US" sz="40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tudents should work in groups to create personal calendars. They should work together to assist and set goals.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1"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sk selected participants to share particularly good examples of their work.</a:t>
            </a:r>
            <a:br>
              <a:rPr sz="3200"/>
            </a:br>
            <a:r>
              <a:rPr b="0" lang="en-US" sz="3200" spc="-1" strike="noStrike">
                <a:solidFill>
                  <a:srgbClr val="212164"/>
                </a:solidFill>
                <a:latin typeface="Arial"/>
              </a:rPr>
              <a:t>Ask- How did the calendar helps us organize and plan for future events? </a:t>
            </a:r>
            <a:endParaRPr b="0" lang="en-US" sz="3200" spc="-1" strike="noStrike">
              <a:solidFill>
                <a:srgbClr val="212164"/>
              </a:solidFill>
              <a:latin typeface="Arial"/>
            </a:endParaRPr>
          </a:p>
        </p:txBody>
      </p:sp>
      <p:sp>
        <p:nvSpPr>
          <p:cNvPr id="113"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4"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oday we discovered the calendar template feature of Microsoft Publisher. We created well organized personal calendars that will help us plan for the future.  </a:t>
            </a:r>
            <a:endParaRPr b="0" lang="en-US" sz="3200" spc="-1" strike="noStrike">
              <a:solidFill>
                <a:srgbClr val="212164"/>
              </a:solidFill>
              <a:latin typeface="Arial"/>
            </a:endParaRPr>
          </a:p>
        </p:txBody>
      </p:sp>
      <p:sp>
        <p:nvSpPr>
          <p:cNvPr id="116"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7"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8"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75000"/>
          </a:bodyPr>
          <a:p>
            <a:pPr marL="257040" indent="-2570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Microsoft Publisher includes a template for users to create custom, personal calendars.</a:t>
            </a:r>
            <a:endParaRPr b="0" lang="en-US" sz="2800" spc="-1" strike="noStrike">
              <a:solidFill>
                <a:srgbClr val="212164"/>
              </a:solidFill>
              <a:latin typeface="Arial"/>
            </a:endParaRPr>
          </a:p>
          <a:p>
            <a:pPr marL="257040" indent="-2570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Users can customize the fonts, cells, and text in the calendar. They can also add graphics.</a:t>
            </a:r>
            <a:endParaRPr b="0" lang="en-US" sz="2800" spc="-1" strike="noStrike">
              <a:solidFill>
                <a:srgbClr val="212164"/>
              </a:solidFill>
              <a:latin typeface="Arial"/>
            </a:endParaRPr>
          </a:p>
          <a:p>
            <a:pPr marL="257040" indent="-2570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 personal calendar allows students to plan for the future and be successful at home and in school.</a:t>
            </a:r>
            <a:endParaRPr b="0" lang="en-US" sz="2800" spc="-1" strike="noStrike">
              <a:solidFill>
                <a:srgbClr val="212164"/>
              </a:solidFill>
              <a:latin typeface="Arial"/>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25704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20"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How can I create a calendars using Microsoft Publisher?</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What custom features are available when I create a calendar using Publisher?</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What are the benefits of creating my personal calendar with the software?</a:t>
            </a:r>
            <a:br>
              <a:rPr sz="2800"/>
            </a:br>
            <a:br>
              <a:rPr sz="2800"/>
            </a:br>
            <a:r>
              <a:rPr b="0" i="1"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8"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lnSpc>
                <a:spcPct val="80000"/>
              </a:lnSpc>
              <a:spcBef>
                <a:spcPts val="34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164"/>
                </a:solidFill>
                <a:latin typeface="Arial"/>
              </a:rPr>
              <a:t>Often we find it difficult to plan ahead because we do not know what the future will hold. However, if we start plotting upcoming events on a calendar we can better organize our plans and be prepared for the future. For instance, most teachers will give you dates of when your upcoming assignments and tests will be held.  Wouldn’t it be nice to have all the information on a calendar? If you put your events on a calendar, you will be more prepared. You will be able to study in advance. You will not be shocked when your teacher announces the test is coming in a few days because you put it on the calendar a week ago when your teacher first announced it.  When I show you how to create a calendar today, you will be more prepared. You can mark all the upcoming events in your life.  In addition, you will be able to show teachers how to use the calendar feature of Publisher.  They will be glad you showed it to them because teachers always want to be organized.</a:t>
            </a:r>
            <a:r>
              <a:rPr b="0" i="1" lang="en-US" sz="1400" spc="-1" strike="noStrike">
                <a:solidFill>
                  <a:srgbClr val="212164"/>
                </a:solidFill>
                <a:latin typeface="Arial"/>
              </a:rPr>
              <a:t>  </a:t>
            </a:r>
            <a:br>
              <a:rPr sz="1400"/>
            </a:br>
            <a:br>
              <a:rPr sz="1400"/>
            </a:br>
            <a:r>
              <a:rPr b="0" i="1" lang="en-US" sz="1400" spc="-1" strike="noStrike">
                <a:solidFill>
                  <a:srgbClr val="212164"/>
                </a:solidFill>
                <a:latin typeface="Arial"/>
              </a:rPr>
              <a:t> </a:t>
            </a:r>
            <a:endParaRPr b="0" lang="en-US" sz="1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Now it is your turn to try.  You are going to create your personal calendar using Microsoft Publisher.  I will give you some sample dates to put into your calendar.  You will also install graphics and customize your calendar to meet your requirements.  Lastly, you will print your calendar.</a:t>
            </a:r>
            <a:r>
              <a:rPr b="0"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Step 1- Select a calendar template</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Step 2- Add the following activity dates: May 5- Math Test, May 8 – Science Test, May 11- History Collage Due, May 22- Field Trip</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12164"/>
                </a:solidFill>
                <a:latin typeface="Arial"/>
              </a:rPr>
              <a:t>Step 3- Add three pictures to your calendar.</a:t>
            </a:r>
            <a:r>
              <a:rPr b="0" lang="en-US" sz="3200" spc="-1" strike="noStrike">
                <a:solidFill>
                  <a:srgbClr val="212164"/>
                </a:solidFill>
                <a:latin typeface="Arial"/>
              </a:rPr>
              <a:t>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212164"/>
                </a:solidFill>
                <a:latin typeface="Arial"/>
              </a:rPr>
              <a:t>Getting Started</a:t>
            </a:r>
            <a:br>
              <a:rPr sz="1800"/>
            </a:br>
            <a:r>
              <a:rPr b="0" i="1" lang="en-US" sz="1800" spc="-1" strike="noStrike">
                <a:solidFill>
                  <a:srgbClr val="212164"/>
                </a:solidFill>
                <a:latin typeface="Arial"/>
              </a:rPr>
              <a:t>Take the next 15 minutes to do the following:</a:t>
            </a:r>
            <a:br>
              <a:rPr sz="1800"/>
            </a:br>
            <a:r>
              <a:rPr b="0" i="1" lang="en-US" sz="1800" spc="-1" strike="noStrike">
                <a:solidFill>
                  <a:srgbClr val="212164"/>
                </a:solidFill>
                <a:latin typeface="Arial"/>
              </a:rPr>
              <a:t>Participants will...</a:t>
            </a:r>
            <a:br>
              <a:rPr sz="1800"/>
            </a:br>
            <a:r>
              <a:rPr b="0" i="1" lang="en-US" sz="1800" spc="-1" strike="noStrike" u="sng">
                <a:solidFill>
                  <a:srgbClr val="212164"/>
                </a:solidFill>
                <a:uFillTx/>
                <a:latin typeface="Arial"/>
              </a:rPr>
              <a:t>Step 1 –Under New from Design Menu – Select Publications for Print</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Step 2- Click Calendars.</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Step 3- Click on a calendar template.</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Step 4- Input personal info- Click ok.</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Step 5- Click on photo</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Step 6- Click on insert photo icon</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Step 7- Select photo from directory- click ok</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Adding text to dates</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Step 1- Click on date</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Step 2- Click enter or return to move cursor below date</a:t>
            </a:r>
            <a:endParaRPr b="0" lang="en-US" sz="1800" spc="-1" strike="noStrike">
              <a:solidFill>
                <a:srgbClr val="212164"/>
              </a:solidFill>
              <a:latin typeface="Arial"/>
            </a:endParaRPr>
          </a:p>
          <a:p>
            <a:pPr marL="343080" indent="-343080">
              <a:lnSpc>
                <a:spcPct val="80000"/>
              </a:lnSpc>
              <a:spcBef>
                <a:spcPts val="45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212164"/>
                </a:solidFill>
                <a:uFillTx/>
                <a:latin typeface="Arial"/>
              </a:rPr>
              <a:t>Step 3- Type text.</a:t>
            </a: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Adding Graphics to Dates</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Step 1- Click on date</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Step 2- Move cursor to location where you want the graphic</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Step 3- Top menu- Insert Picture</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Step 4- Select either clip art or from file</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Step 5- Insert</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Step 6- Click on photos corner tab to resize to fit cell.</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To print</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Step 1- File –Print Preview</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Step 2- Make sure printer is set to print landscape</a:t>
            </a:r>
            <a:endParaRPr b="0" lang="en-US" sz="2000" spc="-1" strike="noStrike">
              <a:solidFill>
                <a:srgbClr val="212164"/>
              </a:solidFill>
              <a:latin typeface="Arial"/>
            </a:endParaRPr>
          </a:p>
          <a:p>
            <a:pPr marL="343080" indent="-343080">
              <a:lnSpc>
                <a:spcPct val="8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12164"/>
                </a:solidFill>
                <a:uFillTx/>
                <a:latin typeface="Arial"/>
              </a:rPr>
              <a:t>Step 3- Click printer icon to begin printing.</a:t>
            </a:r>
            <a:r>
              <a:rPr b="0" lang="en-US" sz="2000" spc="-1" strike="noStrike">
                <a:solidFill>
                  <a:srgbClr val="212164"/>
                </a:solidFill>
                <a:latin typeface="Arial"/>
              </a:rPr>
              <a:t> </a:t>
            </a:r>
            <a:endParaRPr b="0" lang="en-US" sz="2000" spc="-1" strike="noStrike">
              <a:solidFill>
                <a:srgbClr val="212164"/>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8-05-20T13:49:49Z</dcterms:modified>
  <cp:revision>4</cp:revision>
  <dc:subject/>
  <dc:title>Workshop Title</dc:title>
</cp:coreProperties>
</file>